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B5E-10CF-4778-9D1C-9A57300A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C1E-0F44-4EF2-A39E-5A08CEA2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0F9-AA76-4F66-B716-7183E8D9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98A-38F2-41E7-8B2D-CD7A334B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175-C701-4E4B-90A7-A8BA1C6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DD3-220D-4CA2-898B-0B025A6D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7DA-8116-4AF5-BD3F-8009133C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027-8722-45C4-8019-49788FCE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A4F-481C-473B-82DA-AE51F5FD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16B-18D8-44ED-A179-E48FF966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444-7716-4BA2-BE88-592F5C1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0B0-E988-47E6-ABC6-59017F95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A071-2914-4F1C-9B24-1CAC61ACD7C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Doğruyu, yanlışı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ondan görmedi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orku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yaşatıyoruz çocuklar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Biletçi avaz avaz bağırıyo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Patronun yanına gitt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ooperatife gird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Film izlemeye gitti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ilesi onu sev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blası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programda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yarışaca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dam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televizyonu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onarmı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İki saat çalışt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imde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unuttum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albim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Eczaneden defne yaprağı ald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f"/>
          </a:solidFill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KURU YAPRAK, YEŞERİR Mİ?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O GÜN ANLADIM GERÇEĞİ. 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MERHAMET ETMİYORSUN HİÇ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BUGÜN YÜRÜYECEKLER DAĞDAN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NİYE KÜSTÜK BİRBİRİMİ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Düzensizliğini de seviyorum İstanbul'u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Şimdi atölyede çalışıyo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Doksan yıldır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çile çekmi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r çiçek buldum mektupların arasınd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Virajlı yollardan geçti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Anneme çiçek yaptırd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Sarı laleler aldım sana pazard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18T19:47:58Z</dcterms:modified>
  <cp:revision>92</cp:revision>
  <dc:subject/>
  <dc:title>KONU 1</dc:title>
</cp:coreProperties>
</file>